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E5E-C744-44C0-99B2-D70995A4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050-58BA-429D-B294-E8F8492C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D01-A02C-470B-B9D8-C44C3C55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858-38F9-476B-BF5E-63955D46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818-EFB1-4441-B065-FE744549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0FB-2EB4-4695-93E0-06ABBACC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070-8449-4CB7-813D-72A90D0A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88A-77B6-427B-808E-052A7978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A15-DE74-4FA1-A23B-2254FDBD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FFF-00B1-43B0-9479-449FFB28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99E-3B59-4FFB-9D83-ABCD457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4CD-883E-4CE9-BFFD-80BB8324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9BF5-4AB2-40F2-A1E3-4A6194D16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760" y="1638360"/>
            <a:ext cx="649080" cy="658800"/>
          </a:xfrm>
          <a:custGeom>
            <a:avLst/>
            <a:gdLst/>
            <a:ahLst/>
            <a:rect l="l" t="t" r="r" b="b"/>
            <a:pathLst>
              <a:path w="409" h="415">
                <a:moveTo>
                  <a:pt x="0" y="0"/>
                </a:moveTo>
                <a:lnTo>
                  <a:pt x="408" y="0"/>
                </a:lnTo>
                <a:lnTo>
                  <a:pt x="408" y="414"/>
                </a:lnTo>
                <a:lnTo>
                  <a:pt x="0" y="41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71840" y="190440"/>
            <a:ext cx="621000" cy="706320"/>
          </a:xfrm>
          <a:custGeom>
            <a:avLst/>
            <a:gdLst/>
            <a:ahLst/>
            <a:rect l="l" t="t" r="r" b="b"/>
            <a:pathLst>
              <a:path w="391" h="445">
                <a:moveTo>
                  <a:pt x="0" y="0"/>
                </a:moveTo>
                <a:lnTo>
                  <a:pt x="390" y="0"/>
                </a:lnTo>
                <a:lnTo>
                  <a:pt x="390" y="444"/>
                </a:lnTo>
                <a:lnTo>
                  <a:pt x="0" y="44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03400" y="391788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37440" y="127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58680" y="152712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200" y="2978280"/>
            <a:ext cx="620640" cy="64908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8400" y="6984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7680" y="171360"/>
            <a:ext cx="611280" cy="630360"/>
          </a:xfrm>
          <a:custGeom>
            <a:avLst/>
            <a:gdLst/>
            <a:ahLst/>
            <a:rect l="l" t="t" r="r" b="b"/>
            <a:pathLst>
              <a:path w="385" h="397">
                <a:moveTo>
                  <a:pt x="0" y="0"/>
                </a:moveTo>
                <a:lnTo>
                  <a:pt x="384" y="0"/>
                </a:lnTo>
                <a:lnTo>
                  <a:pt x="384" y="396"/>
                </a:lnTo>
                <a:lnTo>
                  <a:pt x="0" y="39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84240" y="3168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9760" y="171360"/>
            <a:ext cx="639720" cy="630360"/>
          </a:xfrm>
          <a:custGeom>
            <a:avLst/>
            <a:gdLst/>
            <a:ahLst/>
            <a:rect l="l" t="t" r="r" b="b"/>
            <a:pathLst>
              <a:path w="403" h="397">
                <a:moveTo>
                  <a:pt x="0" y="0"/>
                </a:moveTo>
                <a:lnTo>
                  <a:pt x="402" y="0"/>
                </a:lnTo>
                <a:lnTo>
                  <a:pt x="402" y="396"/>
                </a:lnTo>
                <a:lnTo>
                  <a:pt x="0" y="39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79520" y="6048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52560" y="171360"/>
            <a:ext cx="696960" cy="64944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65320" y="20304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080" y="200160"/>
            <a:ext cx="677880" cy="715680"/>
          </a:xfrm>
          <a:custGeom>
            <a:avLst/>
            <a:gdLst/>
            <a:ahLst/>
            <a:rect l="l" t="t" r="r" b="b"/>
            <a:pathLst>
              <a:path w="427" h="451">
                <a:moveTo>
                  <a:pt x="0" y="0"/>
                </a:moveTo>
                <a:lnTo>
                  <a:pt x="426" y="0"/>
                </a:lnTo>
                <a:lnTo>
                  <a:pt x="426" y="450"/>
                </a:lnTo>
                <a:lnTo>
                  <a:pt x="0" y="4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4160" y="209520"/>
            <a:ext cx="696960" cy="64944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6920" y="24120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5120" y="1638360"/>
            <a:ext cx="621000" cy="64908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25520" y="14889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1600200"/>
            <a:ext cx="696600" cy="64944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1320" y="163188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8680" y="289548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84200" y="2949480"/>
            <a:ext cx="620640" cy="64944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5520" y="285768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98920" y="2968560"/>
            <a:ext cx="696600" cy="64944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1320" y="300024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14960" y="1562040"/>
            <a:ext cx="639720" cy="649440"/>
          </a:xfrm>
          <a:custGeom>
            <a:avLst/>
            <a:gdLst/>
            <a:ahLst/>
            <a:rect l="l" t="t" r="r" b="b"/>
            <a:pathLst>
              <a:path w="403" h="409">
                <a:moveTo>
                  <a:pt x="0" y="0"/>
                </a:moveTo>
                <a:lnTo>
                  <a:pt x="402" y="0"/>
                </a:lnTo>
                <a:lnTo>
                  <a:pt x="402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7880" y="156204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3880" y="156204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33920" y="1523880"/>
            <a:ext cx="677880" cy="716040"/>
          </a:xfrm>
          <a:custGeom>
            <a:avLst/>
            <a:gdLst/>
            <a:ahLst/>
            <a:rect l="l" t="t" r="r" b="b"/>
            <a:pathLst>
              <a:path w="427" h="451">
                <a:moveTo>
                  <a:pt x="0" y="0"/>
                </a:moveTo>
                <a:lnTo>
                  <a:pt x="426" y="0"/>
                </a:lnTo>
                <a:lnTo>
                  <a:pt x="426" y="450"/>
                </a:lnTo>
                <a:lnTo>
                  <a:pt x="0" y="4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96000" y="1533600"/>
            <a:ext cx="696960" cy="64908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08760" y="156528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4057560"/>
            <a:ext cx="611280" cy="630360"/>
          </a:xfrm>
          <a:custGeom>
            <a:avLst/>
            <a:gdLst/>
            <a:ahLst/>
            <a:rect l="l" t="t" r="r" b="b"/>
            <a:pathLst>
              <a:path w="385" h="397">
                <a:moveTo>
                  <a:pt x="0" y="0"/>
                </a:moveTo>
                <a:lnTo>
                  <a:pt x="384" y="0"/>
                </a:lnTo>
                <a:lnTo>
                  <a:pt x="384" y="396"/>
                </a:lnTo>
                <a:lnTo>
                  <a:pt x="0" y="39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4048200"/>
            <a:ext cx="621000" cy="64908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55760" y="397512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81280" y="4038480"/>
            <a:ext cx="620640" cy="64944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22600" y="39369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4048200"/>
            <a:ext cx="696960" cy="64908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8400" y="407988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25880" y="2857680"/>
            <a:ext cx="359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Work out the sums with a friend - in French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21:58Z</dcterms:created>
  <dc:creator>Helen</dc:creator>
  <dc:description/>
  <dc:language>en-US</dc:language>
  <cp:lastModifiedBy>Helen</cp:lastModifiedBy>
  <dcterms:modified xsi:type="dcterms:W3CDTF">2010-05-22T13:22:51Z</dcterms:modified>
  <cp:revision>2</cp:revision>
  <dc:subject/>
  <dc:title>Slide 1</dc:title>
</cp:coreProperties>
</file>